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F2444-92F0-4A39-BB0A-EA30204EC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A430-ADAC-4021-B51F-B0B171A6C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DDCFA-AC63-4F8E-8A26-DDCAC82F9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B226A-486A-4976-9CB1-40EA4889A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5452C-A010-42A2-90FE-E2546AB96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37A76-F69D-4ECB-ABC4-A24197376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EC32E-4303-4693-892E-454BE4A72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B6E25-E809-405C-8950-14DEE366E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F7A53-FD0D-41DA-9E23-F6D6851AE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77037-93CE-4107-BC6F-9E68A7B62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32AC1-6014-4784-91D9-E66001406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50EE9-86A3-4007-BC94-12C5FCA4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1AF6-FD3E-40F6-B00A-76E07F13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81A8D-A9C0-4746-AF7F-A3F28E485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A9507-2CBE-45AF-9287-B569ACB1A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19321-5CCF-429F-B439-C0ECE9107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4883E-140A-49DF-9A9C-D3394280C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25EB7-06BD-46E8-8E18-96E2853FF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7B0E9-CFD0-4C15-AA19-649A45D2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5A74-2AA9-4D17-A089-6CD68E15F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4173-A4B2-4B93-BBF5-4D73B084F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90C9-3BFB-4210-97D4-4A2F5CE65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0C5F-55EB-4F94-8544-BF971A404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E62A-617D-4552-83F3-0E0556803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3C3-60CA-4840-B58A-1C4BD2B55BCA}"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0E18-0A4A-428A-88CC-53395F497FAE}"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80640"/>
            <a:ext cx="7772400" cy="201636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500" spc="-1" strike="noStrike">
                <a:solidFill>
                  <a:srgbClr val="000000"/>
                </a:solidFill>
                <a:latin typeface="Arial"/>
                <a:cs typeface="khalaad al-arabeh"/>
              </a:rPr>
              <a:t>تنمية مهارات التفكير</a:t>
            </a:r>
            <a:endParaRPr b="0" lang="en-US" sz="8500" spc="-1" strike="noStrike">
              <a:solidFill>
                <a:srgbClr val="000000"/>
              </a:solidFill>
              <a:latin typeface="Arial"/>
            </a:endParaRPr>
          </a:p>
        </p:txBody>
      </p:sp>
      <p:sp>
        <p:nvSpPr>
          <p:cNvPr id="87" name="PlaceHolder 2"/>
          <p:cNvSpPr>
            <a:spLocks noGrp="1"/>
          </p:cNvSpPr>
          <p:nvPr>
            <p:ph type="subTitle"/>
          </p:nvPr>
        </p:nvSpPr>
        <p:spPr>
          <a:xfrm>
            <a:off x="1403280" y="4652640"/>
            <a:ext cx="6400800" cy="13921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عداد المشرف التربو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عيسى الحرب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دارة التربية والتعليم بمحافظة القريات</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موضوعات ذات علاقة </a:t>
            </a:r>
            <a:br>
              <a:rPr sz="4400"/>
            </a:br>
            <a:r>
              <a:rPr b="0" lang="hi-IN" sz="4400" spc="-1" strike="noStrike">
                <a:solidFill>
                  <a:srgbClr val="8c0039"/>
                </a:solidFill>
                <a:latin typeface="Arial"/>
                <a:cs typeface="khalaad al-arabeh"/>
              </a:rPr>
              <a:t>بتنمية مهارات التفكير</a:t>
            </a:r>
            <a:endParaRPr b="0" lang="en-US" sz="44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بلوم.</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ماسلو.</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جدول المواصفات.</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سئلة الصفية.</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ختبار.</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مثلة على برامج تعليم التفكير</a:t>
            </a:r>
            <a:endParaRPr b="0" lang="en-US" sz="4400" spc="-1" strike="noStrike">
              <a:solidFill>
                <a:srgbClr val="8c0039"/>
              </a:solidFill>
              <a:latin typeface="Arial"/>
            </a:endParaRPr>
          </a:p>
        </p:txBody>
      </p:sp>
      <p:sp>
        <p:nvSpPr>
          <p:cNvPr id="107" name="PlaceHolder 1"/>
          <p:cNvSpPr>
            <a:spLocks noGrp="1"/>
          </p:cNvSpPr>
          <p:nvPr>
            <p:ph/>
          </p:nvPr>
        </p:nvSpPr>
        <p:spPr>
          <a:xfrm>
            <a:off x="2438280" y="2189160"/>
            <a:ext cx="6400800" cy="390672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كورت </a:t>
            </a:r>
            <a:r>
              <a:rPr b="0" lang="en-US" sz="4400" spc="-1" strike="noStrike">
                <a:solidFill>
                  <a:srgbClr val="3c41a8"/>
                </a:solidFill>
                <a:latin typeface="Arial"/>
                <a:ea typeface="AdvertisingMedium"/>
              </a:rPr>
              <a:t>CORT</a:t>
            </a:r>
            <a:r>
              <a:rPr b="0" lang="ar-SA" sz="4400" spc="-1" strike="noStrike">
                <a:solidFill>
                  <a:srgbClr val="3c41a8"/>
                </a:solidFill>
                <a:latin typeface="Arial"/>
                <a:ea typeface="AdvertisingMedium"/>
              </a:rPr>
              <a:t>.</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قبعات الست.</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مفكر المبدع.</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09" name="PlaceHolder 2"/>
          <p:cNvSpPr>
            <a:spLocks noGrp="1"/>
          </p:cNvSpPr>
          <p:nvPr>
            <p:ph/>
          </p:nvPr>
        </p:nvSpPr>
        <p:spPr>
          <a:xfrm>
            <a:off x="2438280" y="1989000"/>
            <a:ext cx="6400800" cy="4106880"/>
          </a:xfrm>
          <a:prstGeom prst="rect">
            <a:avLst/>
          </a:prstGeom>
          <a:noFill/>
          <a:ln w="0">
            <a:noFill/>
          </a:ln>
        </p:spPr>
        <p:txBody>
          <a:bodyPr lIns="90000" rIns="90000" tIns="46800" bIns="46800" anchor="t">
            <a:normAutofit fontScale="80000"/>
          </a:bodyPr>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صاحب الكلمة الأولى والأخيرة في الصف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مركز الفعل ويحتكر معظم وقت الحصة والطلبة خاملون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كتاب المدرسي المقرر هو المرجع الوحيد للمعلم في أغلب الأحيان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1" name="PlaceHolder 2"/>
          <p:cNvSpPr>
            <a:spLocks noGrp="1"/>
          </p:cNvSpPr>
          <p:nvPr>
            <p:ph/>
          </p:nvPr>
        </p:nvSpPr>
        <p:spPr>
          <a:xfrm>
            <a:off x="2195280" y="1557360"/>
            <a:ext cx="6616440" cy="489600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يعتمد المعلم على عدد محدود من الطلبة ، يوجه إليهم أسئلة دائما لإنقاذ الموقف والإجابة عن السؤال الصع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المعلم مغرم بإصدار الاحكام والتعليقات المحبطة لمن يجيبون بطريقة مختلفة عما يفكرون فيه ،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المعلم لايتقبل الأفكار الغريبة أو الأسئلة الخارجية عن موضوع الدرس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معظم أسئلة المعلم من النوع الذي يتطلب مهارات تفكير متدنية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نادراً ما يسأل المعلم أسئلة تبدأ بكيف ؟ ولماذا ؟ وماذا لو.</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5" name="PlaceHolder 2"/>
          <p:cNvSpPr>
            <a:spLocks noGrp="1"/>
          </p:cNvSpPr>
          <p:nvPr>
            <p:ph/>
          </p:nvPr>
        </p:nvSpPr>
        <p:spPr>
          <a:xfrm>
            <a:off x="2438280" y="1599840"/>
            <a:ext cx="6400800" cy="4924440"/>
          </a:xfrm>
          <a:prstGeom prst="rect">
            <a:avLst/>
          </a:prstGeom>
          <a:noFill/>
          <a:ln w="0">
            <a:noFill/>
          </a:ln>
        </p:spPr>
        <p:txBody>
          <a:bodyPr lIns="90000" rIns="90000" tIns="46800" bIns="46800" anchor="t">
            <a:normAutofit fontScale="83000"/>
          </a:bodyPr>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أحياناً يعاقب المعلم التلميذ على التساؤل ويتعرض للسخر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ميل المعلم نحو مكافأة التلاميذ الذين يبدون سلوك الطاعة والإذعان والمساير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عتقد المعلم أن مهارات التفكير توجد وتنمو مع نمو جسم الإنسان ولذا فالتعلم قليل التأثير فيها كماً ونوعاً.</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7"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نادراً ما يعتمد المعلم على أساليب حديثة لتوصيل المعلومات كأسلوب البحث والاستقصاء والنقاش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المعلم يفضل الطالب الحافظ على الطالب المبتكر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صر المعلم في الغالب على ممارسة دوره التقليدي في تزويد الطلاب بالمعلومات ومطالبتهم بالحفظ والاسترجاع.</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9" name="PlaceHolder 2"/>
          <p:cNvSpPr>
            <a:spLocks noGrp="1"/>
          </p:cNvSpPr>
          <p:nvPr>
            <p:ph/>
          </p:nvPr>
        </p:nvSpPr>
        <p:spPr>
          <a:xfrm>
            <a:off x="2123640" y="1599840"/>
            <a:ext cx="6715080" cy="5257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يقوم المعلم طلابه في الغالب من خلال استظهار المعلومات التي يفترض انهم حفظوها مسبقاً.</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حصل المتعلم في الغالب على تعزيز لفظي نمطي على تحصيله وحفظه وليس على إبداعه فالأخير ربما يقابل بفتور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ندر استخدام المعلم لاستراتيجيات التعلم التعاوني.</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1" name="PlaceHolder 2"/>
          <p:cNvSpPr>
            <a:spLocks noGrp="1"/>
          </p:cNvSpPr>
          <p:nvPr>
            <p:ph/>
          </p:nvPr>
        </p:nvSpPr>
        <p:spPr>
          <a:xfrm>
            <a:off x="2339640" y="1600200"/>
            <a:ext cx="649908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3c41a8"/>
                </a:solidFill>
                <a:latin typeface="Arial"/>
                <a:cs typeface="AdvertisingMedium"/>
              </a:rPr>
              <a:t>تسود بين الطلاب مشاعر القلق والخوف والتوتر في جو يعتمد الأمان فيه على مقدار ما يحصل عليه الطالب من الدرجات ولذا ثقة الطالب في نفسه ليست مرتبطة بقدراته عدا الحفظ والاستظهار.</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c41a8"/>
                </a:solidFill>
                <a:latin typeface="Arial"/>
                <a:cs typeface="AdvertisingMedium"/>
              </a:rPr>
              <a:t>لا توجد توقعات واضحة وايجابية لما ينتظر من الطلاب تحقيقه.</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3" name="PlaceHolder 2"/>
          <p:cNvSpPr>
            <a:spLocks noGrp="1"/>
          </p:cNvSpPr>
          <p:nvPr>
            <p:ph/>
          </p:nvPr>
        </p:nvSpPr>
        <p:spPr>
          <a:xfrm>
            <a:off x="2195640" y="1599840"/>
            <a:ext cx="6643440" cy="485316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ميل الطلاب لمسايرة بعضهم فكريا ويفكرون في الغالب بعقل معلمهم أو عقول الآخرين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المعلم في الغالب لم يعد يلعب دور النموذج لطلابه و احياناً يصبح الطالب هو النموذج.</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صعب على المعلم الاعتراف بأخطائه وبخاصة عندما يأتي التصويب من الطلاب .</a:t>
            </a:r>
            <a:br>
              <a:rPr sz="3200"/>
            </a:br>
            <a:r>
              <a:rPr b="0" lang="en-US" sz="3200" spc="-1" strike="noStrike">
                <a:solidFill>
                  <a:srgbClr val="3c41a8"/>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c0039"/>
                </a:solidFill>
                <a:latin typeface="Angsana New"/>
                <a:cs typeface="khalaad al-arabeh"/>
              </a:rPr>
              <a:t>تعريف التفكير</a:t>
            </a:r>
            <a:endParaRPr b="0" lang="en-US" sz="48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3000"/>
          </a:bodyPr>
          <a:p>
            <a:pPr marL="318960" indent="-318960" algn="r" rtl="1">
              <a:spcBef>
                <a:spcPts val="1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c41a8"/>
                </a:solidFill>
                <a:latin typeface="Arial"/>
                <a:ea typeface="AdvertisingMedium"/>
              </a:rPr>
              <a:t> عبارة عن عملية عقلية يستطيع المتعلم عن طريقها عمل أي شيء ذي معنى من خلال الخبرة التي يمر بها</a:t>
            </a:r>
            <a:endParaRPr b="0" lang="en-US" sz="5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600"/>
            <a:ext cx="6400800" cy="22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c0039"/>
                </a:solidFill>
                <a:latin typeface="Arial"/>
                <a:cs typeface="khalaad al-arabeh"/>
              </a:rPr>
              <a:t>أتمنى التوفيق للجميع</a:t>
            </a:r>
            <a:endParaRPr b="0" lang="en-US" sz="6000" spc="-1" strike="noStrike">
              <a:solidFill>
                <a:srgbClr val="8c0039"/>
              </a:solidFill>
              <a:latin typeface="Arial"/>
            </a:endParaRPr>
          </a:p>
        </p:txBody>
      </p:sp>
      <p:sp>
        <p:nvSpPr>
          <p:cNvPr id="125" name="PlaceHolder 2"/>
          <p:cNvSpPr>
            <a:spLocks noGrp="1"/>
          </p:cNvSpPr>
          <p:nvPr>
            <p:ph/>
          </p:nvPr>
        </p:nvSpPr>
        <p:spPr>
          <a:xfrm>
            <a:off x="2438280" y="3716280"/>
            <a:ext cx="6400800" cy="2379600"/>
          </a:xfrm>
          <a:prstGeom prst="rect">
            <a:avLst/>
          </a:prstGeom>
          <a:noFill/>
          <a:ln w="0">
            <a:noFill/>
          </a:ln>
        </p:spPr>
        <p:txBody>
          <a:bodyPr lIns="90000" rIns="90000" tIns="46800" bIns="46800"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المشرف التربو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عيسى الحرب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إدارة التربية والتعليم بمحافظة القريات</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مفهوم مهارات التفكير</a:t>
            </a:r>
            <a:endParaRPr b="0" lang="en-US" sz="4800" spc="-1" strike="noStrike">
              <a:solidFill>
                <a:srgbClr val="8c0039"/>
              </a:solidFill>
              <a:latin typeface="Arial"/>
            </a:endParaRPr>
          </a:p>
        </p:txBody>
      </p:sp>
      <p:sp>
        <p:nvSpPr>
          <p:cNvPr id="9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6000"/>
          </a:bodyPr>
          <a:p>
            <a:pPr marL="294840" indent="-294840" algn="r" rtl="1">
              <a:lnSpc>
                <a:spcPct val="9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c41a8"/>
                </a:solidFill>
                <a:latin typeface="Arial"/>
                <a:ea typeface="AdvertisingMedium"/>
              </a:rPr>
              <a:t> تلك العمليات التي نقوم بها من أجل جمع المعلومات وحفظها أو تخزينها، وذلك من خلال إجراءات التحليل والتخطيط والتقييم والوصول إلى استنتاجات وصنع القرارت</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مثلة على مهارات التفكير</a:t>
            </a:r>
            <a:endParaRPr b="0" lang="en-US" sz="4800" spc="-1" strike="noStrike">
              <a:solidFill>
                <a:srgbClr val="8c0039"/>
              </a:solidFill>
              <a:latin typeface="Arial"/>
            </a:endParaRPr>
          </a:p>
        </p:txBody>
      </p:sp>
      <p:sp>
        <p:nvSpPr>
          <p:cNvPr id="9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صنيف.</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استدلال.</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إصدار الأحكام.</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مقارنة.</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حل المشكلات.</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فسير.</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لخيص</a:t>
            </a:r>
            <a:r>
              <a:rPr b="0" lang="en-US" sz="3200" spc="-1" strike="noStrike">
                <a:solidFill>
                  <a:srgbClr val="000000"/>
                </a:solidFill>
                <a:latin typeface="Arial"/>
                <a:ea typeface="AdvertisingMedium"/>
              </a:rPr>
              <a:t>.</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عصف الذهني.</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أنماط التفكير</a:t>
            </a:r>
            <a:endParaRPr b="0" lang="en-US" sz="5400" spc="-1" strike="noStrike">
              <a:solidFill>
                <a:srgbClr val="8c0039"/>
              </a:solidFill>
              <a:latin typeface="Arial"/>
            </a:endParaRPr>
          </a:p>
        </p:txBody>
      </p:sp>
      <p:sp>
        <p:nvSpPr>
          <p:cNvPr id="95"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علم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ناقد.</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إبداع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منطقي.</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عوامل مؤثرة في تعليم التفكير</a:t>
            </a:r>
            <a:endParaRPr b="0" lang="en-US" sz="4800" spc="-1" strike="noStrike">
              <a:solidFill>
                <a:srgbClr val="8c0039"/>
              </a:solidFill>
              <a:latin typeface="Arial"/>
            </a:endParaRPr>
          </a:p>
        </p:txBody>
      </p:sp>
      <p:sp>
        <p:nvSpPr>
          <p:cNvPr id="9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حتوى الدراس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خصائص الطالب النمائ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داف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ي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قدر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ئة المدرس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ت.</a:t>
            </a:r>
            <a:endParaRPr b="0" lang="en-US" sz="3600" spc="-1" strike="noStrike">
              <a:solidFill>
                <a:srgbClr val="000000"/>
              </a:solidFill>
              <a:latin typeface="Arial"/>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المكلفين بتنمية مهارات التفكير</a:t>
            </a:r>
            <a:endParaRPr b="0" lang="en-US" sz="4800" spc="-1" strike="noStrike">
              <a:solidFill>
                <a:srgbClr val="8c0039"/>
              </a:solidFill>
              <a:latin typeface="Arial"/>
            </a:endParaRPr>
          </a:p>
        </p:txBody>
      </p:sp>
      <p:sp>
        <p:nvSpPr>
          <p:cNvPr id="99"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شرف التربو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مدير المدرسة.</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علم.</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رشد الطلاب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ولي أمر الطالب.</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طالب.</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همية تعليم التفكير للطالب</a:t>
            </a:r>
            <a:endParaRPr b="0" lang="en-US" sz="4400" spc="-1" strike="noStrike">
              <a:solidFill>
                <a:srgbClr val="8c0039"/>
              </a:solidFill>
              <a:latin typeface="Arial"/>
            </a:endParaRPr>
          </a:p>
        </p:txBody>
      </p:sp>
      <p:sp>
        <p:nvSpPr>
          <p:cNvPr id="10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قدير الذ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واق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عزيز التعلم الذات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حرير العق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ناخ الاجتماع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استعداد للحيا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واطنة الصالحة.</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همية التفكير للمعلم</a:t>
            </a:r>
            <a:endParaRPr b="0" lang="en-US" sz="4800" spc="-1" strike="noStrike">
              <a:solidFill>
                <a:srgbClr val="8c0039"/>
              </a:solidFill>
              <a:latin typeface="Arial"/>
            </a:endParaRPr>
          </a:p>
        </p:txBody>
      </p:sp>
      <p:sp>
        <p:nvSpPr>
          <p:cNvPr id="10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لمام بمختلف أنماط التعليم.</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زيادة الدافعية والنشاط لدى المعلمين.</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ثارة والتعاون والمشاركة.</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ثقة المعلم بنفسه.</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تعزيز الأداء بملاحظة الأثر.</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4-12-24T20:07:22Z</dcterms:modified>
  <cp:revision>1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